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224-C45C-4EE3-AB35-2D1A647DC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DAFD-BB57-405D-A0CB-2D917CAD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9026-B72D-4897-953E-225BC9CA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2B4-E9D6-45F4-A97B-51C1D20E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A337-2185-4141-B994-F204B779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B8B-624D-4A2D-BB14-A1DC677A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24E1-66DF-4FC8-BB03-132169D5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551-4B43-4ECA-85E4-FE9E90B8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6CC-83F9-467A-A8B9-1CBEB6D6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0BD1-378D-4203-809A-D54389DF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3B7-FC41-4AE9-A65F-5685E364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AF9-DDA8-45B1-A161-16872E04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1BEF-2DCE-4C1B-AC76-8B3163057BA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BBCA-1C30-4AD8-950E-37F8C1B20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" Target="slide20.xml"/><Relationship Id="rId13" Type="http://schemas.openxmlformats.org/officeDocument/2006/relationships/slide" Target="slide22.xml"/><Relationship Id="rId14" Type="http://schemas.openxmlformats.org/officeDocument/2006/relationships/slide" Target="slide24.xml"/><Relationship Id="rId15" Type="http://schemas.openxmlformats.org/officeDocument/2006/relationships/slide" Target="slide26.xml"/><Relationship Id="rId16" Type="http://schemas.openxmlformats.org/officeDocument/2006/relationships/slide" Target="slide28.xml"/><Relationship Id="rId17" Type="http://schemas.openxmlformats.org/officeDocument/2006/relationships/slide" Target="slide30.xml"/><Relationship Id="rId18" Type="http://schemas.openxmlformats.org/officeDocument/2006/relationships/slide" Target="slide32.xml"/><Relationship Id="rId19" Type="http://schemas.openxmlformats.org/officeDocument/2006/relationships/slide" Target="slide34.xml"/><Relationship Id="rId20" Type="http://schemas.openxmlformats.org/officeDocument/2006/relationships/slide" Target="slide36.xml"/><Relationship Id="rId21" Type="http://schemas.openxmlformats.org/officeDocument/2006/relationships/slide" Target="slide38.xml"/><Relationship Id="rId22" Type="http://schemas.openxmlformats.org/officeDocument/2006/relationships/slide" Target="slide40.xml"/><Relationship Id="rId23" Type="http://schemas.openxmlformats.org/officeDocument/2006/relationships/slide" Target="slide42.xml"/><Relationship Id="rId24" Type="http://schemas.openxmlformats.org/officeDocument/2006/relationships/slide" Target="slide44.xml"/><Relationship Id="rId25" Type="http://schemas.openxmlformats.org/officeDocument/2006/relationships/slide" Target="slide44.xml"/><Relationship Id="rId26" Type="http://schemas.openxmlformats.org/officeDocument/2006/relationships/slide" Target="slide48.xml"/><Relationship Id="rId27" Type="http://schemas.openxmlformats.org/officeDocument/2006/relationships/slide" Target="slide50.xml"/><Relationship Id="rId28" Type="http://schemas.openxmlformats.org/officeDocument/2006/relationships/slide" Target="slide2.xml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2" action="ppaction://hlinksldjump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4" action="ppaction://hlinksldjump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hlinkClick r:id="rId6" action="ppaction://hlinksldjump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8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9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0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1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2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3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4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5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6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8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9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0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1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2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3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4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5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6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8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gebra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2840" y="1981080"/>
            <a:ext cx="8087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rder the following number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om greatest to lea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/5,  0.5,  1.03,  8/1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69280" y="2071800"/>
            <a:ext cx="52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03,  8/10,  3/5,  0.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6760" y="1932120"/>
            <a:ext cx="8221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best metric unit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use to weigh a smal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ece of cand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85680" y="2438280"/>
            <a:ext cx="172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ram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1828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362320"/>
            <a:ext cx="81532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Jake planted a tree 1.5 meters tall. How many centimeters tall is the tr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13400" y="190512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2362320"/>
            <a:ext cx="5715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150 cm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686160" y="1447560"/>
            <a:ext cx="10667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oint ques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Mr. Dillon bought a bag of 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oranges that weigh 96 ounces. </a:t>
            </a:r>
            <a:br>
              <a:rPr sz="5000"/>
            </a:b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How many pounds is this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point answer</a:t>
            </a:r>
            <a:br>
              <a:rPr sz="40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 poun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86160" y="26668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889280"/>
            <a:ext cx="9067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took the Parson Famil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hour 50 minutes to drive to the shore. They stayed for 5 hours 20 minutes. It took them 2 hours 5 minutes to drive hom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long were they gone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16360" y="2365200"/>
            <a:ext cx="5319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9 hours 15 minute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13372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the numeral eight million, forty seven thousand, five hundred tw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92600" y="254160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1903320"/>
            <a:ext cx="685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area of a square 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44 sq ft. What is its perimeter in yard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2286000"/>
            <a:ext cx="751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243828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16 yard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point question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373392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243828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19051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495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4191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1143000"/>
            <a:ext cx="876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line is perpendicular to line 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245124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ine 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205740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name of a three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imensional figure with six square fac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5320" y="2514600"/>
            <a:ext cx="350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u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2286000"/>
            <a:ext cx="8534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many more lines of symmetry does a square have than a rectangl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51460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981080" y="4724280"/>
            <a:ext cx="624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1752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was done to the rhombu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4572000"/>
            <a:ext cx="75960" cy="76320"/>
          </a:xfrm>
          <a:custGeom>
            <a:avLst/>
            <a:gdLst>
              <a:gd name="textAreaLeft" fmla="*/ 27360 w 75960"/>
              <a:gd name="textAreaRight" fmla="*/ 48600 w 75960"/>
              <a:gd name="textAreaTop" fmla="*/ 27360 h 76320"/>
              <a:gd name="textAreaBottom" fmla="*/ 489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0800" y="21600"/>
                </a:lnTo>
                <a:lnTo>
                  <a:pt x="108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0" bIns="-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191120"/>
            <a:ext cx="1904760" cy="761760"/>
          </a:xfrm>
          <a:custGeom>
            <a:avLst/>
            <a:gdLst>
              <a:gd name="textAreaLeft" fmla="*/ 418680 w 1904760"/>
              <a:gd name="textAreaRight" fmla="*/ 1486080 w 1904760"/>
              <a:gd name="textAreaTop" fmla="*/ 167400 h 761760"/>
              <a:gd name="textAreaBottom" fmla="*/ 5943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3352680"/>
            <a:ext cx="2895480" cy="1524240"/>
          </a:xfrm>
          <a:custGeom>
            <a:avLst/>
            <a:gdLst>
              <a:gd name="textAreaLeft" fmla="*/ 636480 w 2895480"/>
              <a:gd name="textAreaRight" fmla="*/ 2259000 w 2895480"/>
              <a:gd name="textAreaTop" fmla="*/ 335160 h 1524240"/>
              <a:gd name="textAreaBottom" fmla="*/ 118908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52800" y="358128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3809880"/>
            <a:ext cx="2590920" cy="914400"/>
          </a:xfrm>
          <a:prstGeom prst="parallelogram">
            <a:avLst>
              <a:gd name="adj" fmla="val 708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2514600"/>
            <a:ext cx="609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3657600"/>
            <a:ext cx="1447920" cy="685800"/>
          </a:xfrm>
          <a:custGeom>
            <a:avLst/>
            <a:gdLst>
              <a:gd name="textAreaLeft" fmla="*/ 318240 w 1447920"/>
              <a:gd name="textAreaRight" fmla="*/ 1129680 w 1447920"/>
              <a:gd name="textAreaTop" fmla="*/ 150840 h 685800"/>
              <a:gd name="textAreaBottom" fmla="*/ 5349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076640" y="2628360"/>
            <a:ext cx="3276720" cy="4267440"/>
          </a:xfrm>
          <a:custGeom>
            <a:avLst/>
            <a:gdLst>
              <a:gd name="textAreaLeft" fmla="*/ 720360 w 3276720"/>
              <a:gd name="textAreaRight" fmla="*/ 2556360 w 3276720"/>
              <a:gd name="textAreaTop" fmla="*/ 938520 h 4267440"/>
              <a:gd name="textAreaBottom" fmla="*/ 3328920 h 426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4267080"/>
            <a:ext cx="236196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4267080"/>
            <a:ext cx="914400" cy="609840"/>
          </a:xfrm>
          <a:prstGeom prst="flowChartManualOperat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2514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43600" y="5181480"/>
            <a:ext cx="914400" cy="609840"/>
          </a:xfrm>
          <a:prstGeom prst="flowChartManualOperat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57600" y="2895480"/>
            <a:ext cx="1523880" cy="838440"/>
          </a:xfrm>
          <a:custGeom>
            <a:avLst/>
            <a:gdLst>
              <a:gd name="textAreaLeft" fmla="*/ 335160 w 1523880"/>
              <a:gd name="textAreaRight" fmla="*/ 1188720 w 1523880"/>
              <a:gd name="textAreaTop" fmla="*/ 184320 h 838440"/>
              <a:gd name="textAreaBottom" fmla="*/ 654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24280" y="4876920"/>
            <a:ext cx="914400" cy="609480"/>
          </a:xfrm>
          <a:prstGeom prst="flowChartManualOperation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6553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14600" y="52578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112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0" y="2666880"/>
            <a:ext cx="2971800" cy="1524240"/>
          </a:xfrm>
          <a:custGeom>
            <a:avLst/>
            <a:gdLst>
              <a:gd name="textAreaLeft" fmla="*/ 653400 w 2971800"/>
              <a:gd name="textAreaRight" fmla="*/ 2318400 w 2971800"/>
              <a:gd name="textAreaTop" fmla="*/ 335160 h 1524240"/>
              <a:gd name="textAreaBottom" fmla="*/ 118908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3505320"/>
            <a:ext cx="1214640" cy="914400"/>
          </a:xfrm>
          <a:custGeom>
            <a:avLst/>
            <a:gdLst>
              <a:gd name="textAreaLeft" fmla="*/ 267120 w 1214640"/>
              <a:gd name="textAreaRight" fmla="*/ 947520 w 121464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274320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2895480"/>
            <a:ext cx="3200400" cy="2210040"/>
          </a:xfrm>
          <a:custGeom>
            <a:avLst/>
            <a:gdLst>
              <a:gd name="textAreaLeft" fmla="*/ 703800 w 3200400"/>
              <a:gd name="textAreaRight" fmla="*/ 2496600 w 3200400"/>
              <a:gd name="textAreaTop" fmla="*/ 486000 h 2210040"/>
              <a:gd name="textAreaBottom" fmla="*/ 17240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4114800"/>
            <a:ext cx="2666880" cy="2286000"/>
          </a:xfrm>
          <a:custGeom>
            <a:avLst/>
            <a:gdLst>
              <a:gd name="textAreaLeft" fmla="*/ 586440 w 2666880"/>
              <a:gd name="textAreaRight" fmla="*/ 2080440 w 2666880"/>
              <a:gd name="textAreaTop" fmla="*/ 502560 h 2286000"/>
              <a:gd name="textAreaBottom" fmla="*/ 17834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1295280" y="1219320"/>
            <a:ext cx="5638680" cy="2286000"/>
          </a:xfrm>
          <a:prstGeom prst="leftArrow">
            <a:avLst>
              <a:gd name="adj1" fmla="val 50000"/>
              <a:gd name="adj2" fmla="val 616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1828800" y="1143000"/>
            <a:ext cx="76320" cy="76320"/>
          </a:xfrm>
          <a:custGeom>
            <a:avLst/>
            <a:gdLst>
              <a:gd name="textAreaLeft" fmla="*/ 16560 w 76320"/>
              <a:gd name="textAreaRight" fmla="*/ 59760 w 76320"/>
              <a:gd name="textAreaTop" fmla="*/ 16560 h 76320"/>
              <a:gd name="textAreaBottom" fmla="*/ 5976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4419720"/>
            <a:ext cx="1676520" cy="1295280"/>
          </a:xfrm>
          <a:prstGeom prst="parallelogram">
            <a:avLst>
              <a:gd name="adj" fmla="val 3235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5715000"/>
            <a:ext cx="1214640" cy="914400"/>
          </a:xfrm>
          <a:prstGeom prst="parallelogram">
            <a:avLst>
              <a:gd name="adj" fmla="val 3320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4495680"/>
            <a:ext cx="2210040" cy="838440"/>
          </a:xfrm>
          <a:prstGeom prst="parallelogram">
            <a:avLst>
              <a:gd name="adj" fmla="val 658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429000" y="4876920"/>
            <a:ext cx="2286000" cy="1295280"/>
          </a:xfrm>
          <a:prstGeom prst="parallelogram">
            <a:avLst>
              <a:gd name="adj" fmla="val 44122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0800000">
            <a:off x="3429000" y="3123720"/>
            <a:ext cx="2362320" cy="1219320"/>
          </a:xfrm>
          <a:prstGeom prst="parallelogram">
            <a:avLst>
              <a:gd name="adj" fmla="val 48435"/>
            </a:avLst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84520" y="2357280"/>
            <a:ext cx="38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  <a:ea typeface="Times New Roman"/>
              </a:rPr>
              <a:t>a refle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1981080"/>
            <a:ext cx="563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 047,50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608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173664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me this solid. How many faces,  vertices, and edges are there on this three dimensional figu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981160" y="4195800"/>
            <a:ext cx="2885760" cy="1290600"/>
            <a:chOff x="2981160" y="4195800"/>
            <a:chExt cx="2885760" cy="1290600"/>
          </a:xfrm>
        </p:grpSpPr>
        <p:sp>
          <p:nvSpPr>
            <p:cNvPr id="234" name=""/>
            <p:cNvSpPr/>
            <p:nvPr/>
          </p:nvSpPr>
          <p:spPr>
            <a:xfrm flipH="1">
              <a:off x="3565080" y="4209840"/>
              <a:ext cx="2301840" cy="935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565080" y="4209840"/>
              <a:ext cx="2301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2981160" y="4534560"/>
              <a:ext cx="2301840" cy="935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66920" y="4218480"/>
              <a:ext cx="0" cy="935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537880" y="5153760"/>
              <a:ext cx="329040" cy="18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311440" y="5282280"/>
              <a:ext cx="328680" cy="18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5283360" y="4218480"/>
              <a:ext cx="583560" cy="331920"/>
              <a:chOff x="5283360" y="4218480"/>
              <a:chExt cx="583560" cy="331920"/>
            </a:xfrm>
          </p:grpSpPr>
          <p:sp>
            <p:nvSpPr>
              <p:cNvPr id="241" name=""/>
              <p:cNvSpPr/>
              <p:nvPr/>
            </p:nvSpPr>
            <p:spPr>
              <a:xfrm flipH="1">
                <a:off x="5537880" y="4218480"/>
                <a:ext cx="329040" cy="18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5283360" y="4363920"/>
                <a:ext cx="327600" cy="18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 flipH="1">
              <a:off x="3237120" y="5153760"/>
              <a:ext cx="327960" cy="1868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3003120" y="5299560"/>
              <a:ext cx="327960" cy="1868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3006000" y="4195800"/>
              <a:ext cx="583560" cy="331920"/>
              <a:chOff x="3006000" y="4195800"/>
              <a:chExt cx="583560" cy="331920"/>
            </a:xfrm>
          </p:grpSpPr>
          <p:sp>
            <p:nvSpPr>
              <p:cNvPr id="246" name=""/>
              <p:cNvSpPr/>
              <p:nvPr/>
            </p:nvSpPr>
            <p:spPr>
              <a:xfrm flipH="1">
                <a:off x="3260520" y="4195800"/>
                <a:ext cx="329040" cy="18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006000" y="4341240"/>
                <a:ext cx="327600" cy="186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520" y="220968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 faces, 8 vertices, 12 edg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2219400"/>
            <a:ext cx="7324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this pattern continues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next numb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, 6, 12, 24…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2004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71800" y="182880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1676520"/>
            <a:ext cx="883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missing number in this patter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57, 52, 50, ___, 43, 38, 36, 3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97440" y="3497400"/>
            <a:ext cx="157968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52280" y="1857600"/>
            <a:ext cx="87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was the rule used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reate this patter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2, 22, 17, 27, 22, 32, 27, …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DAILY DOUB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02080" y="4781520"/>
            <a:ext cx="10922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57640" y="4621320"/>
            <a:ext cx="10940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84880" y="3854520"/>
            <a:ext cx="1092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76520" y="31240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ILY DOUBLE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54080" y="2286000"/>
            <a:ext cx="732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ubtract 10 and add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200" y="1901880"/>
            <a:ext cx="884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this pattern continues, how ma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locks are needed to build the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figu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3962520"/>
            <a:ext cx="80769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123CountingTiles2"/>
                <a:ea typeface="123CountingTiles2"/>
              </a:rPr>
              <a:t>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0520" y="1852560"/>
            <a:ext cx="7902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680" y="1936800"/>
            <a:ext cx="93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all the factors of 24?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320" y="2055960"/>
            <a:ext cx="8991360" cy="25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s the value of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 this equ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12 = 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41880" y="3568680"/>
            <a:ext cx="12589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33840" y="4572000"/>
            <a:ext cx="1217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4800600"/>
            <a:ext cx="7952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95280" y="190512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1080" y="1523880"/>
            <a:ext cx="740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degrees warmer was it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dnesday than on Thurs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83400" y="198108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0 degre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843200" y="367200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4738680" y="367200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33520" y="1474920"/>
            <a:ext cx="85341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tie will spin each spinner once. What is the total number of different outcomes of a color and a number that can occu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52880" y="236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04920" y="1849320"/>
            <a:ext cx="853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lf of Jason’s class received 80 on a math quiz, one quarter of the class received 75, and one-quarter received 90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is the mode of the class scor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46680" y="24382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aily Dou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3464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-304920" y="1600200"/>
            <a:ext cx="9906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the range, mean and media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f the following test sco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5, 100, 75, 100, 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4419720" y="4572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7" fill="hold"/>
                                        <p:tgtEl>
                                          <p:spTgt spid="3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ily Double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525040" y="1882800"/>
            <a:ext cx="364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ange – 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an – 9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dian – 9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44160" y="1981080"/>
            <a:ext cx="602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 3, 4, 6, 8, 12, 2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2057400"/>
            <a:ext cx="9068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roll 2 dice and then add them, what sum has the best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ce of occurring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-380880" y="1981080"/>
            <a:ext cx="99820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out of 36 possibilities render the sum of 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+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+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+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+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Math Jeopardy</a:t>
            </a:r>
            <a:br>
              <a:rPr sz="8000"/>
            </a:br>
            <a:br>
              <a:rPr sz="8000"/>
            </a:b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2007 PSSA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en-US" sz="6000" spc="-1" strike="noStrike" baseline="30000">
                <a:solidFill>
                  <a:srgbClr val="000000"/>
                </a:solidFill>
                <a:latin typeface="Century Gothic"/>
              </a:rPr>
              <a:t>th</a:t>
            </a: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 Grade Revi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am Ro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ptain 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sures each member has a turn and decides when team mates take their 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imer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eam member watches the clock to make sure the other teams do not exceed the 30 second lim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core Keeper 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is team member keeps track of the points earn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pecial Ru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a contestant answers incorrectly, no points are sco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contestant does not answer in 30 seconds, he/she may choose to ask a team mate for help, if this option is chosen then only half of the points are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-609480" y="2241720"/>
            <a:ext cx="10362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many prime numbers are there greater than 60 and less than 70?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61240" y="2209680"/>
            <a:ext cx="24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1 and 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167652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ound the quotient to the nearest tenth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53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 point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228600" y="1828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63.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udsd</cp:lastModifiedBy>
  <dcterms:modified xsi:type="dcterms:W3CDTF">2012-03-19T12:35:09Z</dcterms:modified>
  <cp:revision>73</cp:revision>
  <dc:subject/>
  <dc:title>Blank Jeopardy</dc:title>
</cp:coreProperties>
</file>